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C033-1FBF-448B-B6EA-4841CE99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6575-D52A-4322-A4D4-D7C9433E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F055-AAAA-4723-8F2C-E2791AF1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B630-1ACD-4B7D-A9ED-E890FD8D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5F48-94CC-42D0-9CC0-E352D5B9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376D-1A2C-49E5-AF19-A59A9390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6156-3B46-4800-8243-83332E56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82EA-86B5-421B-BD23-A846AE05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34F4-7FC0-41CA-A798-31DA78F2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7D5E-8154-43DF-8F1F-0F9F18E4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3601-1FD5-4C94-9E31-F4BC7187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BA491-3048-4255-8746-EAB3C1F3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25A1-6065-4C06-865F-DB8F8A18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D682-7F82-41D8-AEC2-D95957D6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1204-58A0-4205-8683-9ED7D9D7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1D65-E390-49E1-8448-DF5B0569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1F01-CEA3-4707-ABA4-32906094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A674-DE79-4BB2-BA00-11C03C16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5080-7B47-40C9-8D20-E4FAE1A9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333A-9949-42A9-A9E1-7CB01D2D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4571-EF3F-4CF3-935F-5FD987B6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3BB3-E53A-4ECC-B537-3185C22C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9091-C08A-4B26-9C6C-63BAC529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262F-004B-437B-A7EA-2DCAEA3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C8BF-7639-496F-8D1F-E075A8FEBB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E5A4-9771-4BA3-8C06-921CCFB6E7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Логопедическ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удентки 617 гр. Сухарькова Вероника и Урбан Тать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358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рики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ты видиш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98064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авильная 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равь одну букву и прочти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4038480" cy="228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Исправь одну букву и прочти слово"/>
          <p:cNvPicPr/>
          <p:nvPr/>
        </p:nvPicPr>
        <p:blipFill>
          <a:blip r:embed="rId2"/>
          <a:stretch/>
        </p:blipFill>
        <p:spPr>
          <a:xfrm>
            <a:off x="5003640" y="1916280"/>
            <a:ext cx="3822840" cy="45464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зрительного внимания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аница (ана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буквы в клеточках, проследив линию, и прочти получившееся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Напиши буквы в клеточках"/>
          <p:cNvPicPr/>
          <p:nvPr/>
        </p:nvPicPr>
        <p:blipFill>
          <a:blip r:embed="rId1"/>
          <a:stretch/>
        </p:blipFill>
        <p:spPr>
          <a:xfrm>
            <a:off x="1763640" y="2421000"/>
            <a:ext cx="5112000" cy="39812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утай сл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пиши слоги в клетки и прочитай слова, которые у тебя получ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Впиши слоги в клетки"/>
          <p:cNvPicPr/>
          <p:nvPr/>
        </p:nvPicPr>
        <p:blipFill>
          <a:blip r:embed="rId1"/>
          <a:stretch/>
        </p:blipFill>
        <p:spPr>
          <a:xfrm>
            <a:off x="1547640" y="2421000"/>
            <a:ext cx="5848560" cy="40003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57240" y="2273400"/>
            <a:ext cx="722952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457200"/>
            <a:ext cx="8147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необходимые для обучения навыки; применять имеющиеся знания в различных условиях; развивать внимание, мышление, волю и любознательность. Увлекательные игры для дошкольников и первоклассников помогут закрепить элементарные знания по фонетике, освоить и развить навыки чтения, закрепить прочный фундамент грамотного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16000" y="907920"/>
            <a:ext cx="664848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ь логопедических игр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advTm="8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ставление слов из бук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станови 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ь букву, которая должна идти по алфав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4000680"/>
            <a:ext cx="850752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соседей буквы — предыдущую и последующ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Вставь букву"/>
          <p:cNvPicPr/>
          <p:nvPr/>
        </p:nvPicPr>
        <p:blipFill>
          <a:blip r:embed="rId1"/>
          <a:stretch/>
        </p:blipFill>
        <p:spPr>
          <a:xfrm>
            <a:off x="324000" y="2276640"/>
            <a:ext cx="5781600" cy="150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соседей буквы"/>
          <p:cNvPicPr/>
          <p:nvPr/>
        </p:nvPicPr>
        <p:blipFill>
          <a:blip r:embed="rId2"/>
          <a:stretch/>
        </p:blipFill>
        <p:spPr>
          <a:xfrm>
            <a:off x="539640" y="5013360"/>
            <a:ext cx="5295960" cy="13906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мышления и обогащение лекс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тий ли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й звук лишний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ПИ(П — со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ШЧ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(А — 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ЙЧЦ(Ц — твёрд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ТМ(М — звон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ЖЦ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ВК(К — глух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ЙЩ(Ш — твёрды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й кроссворд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иши слова в клеточки так, чтобы они пересекались первыми и последними бук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3024360" cy="2718000"/>
          </a:xfrm>
          <a:prstGeom prst="rect">
            <a:avLst/>
          </a:prstGeom>
          <a:ln w="0">
            <a:noFill/>
          </a:ln>
        </p:spPr>
      </p:pic>
    </p:spTree>
  </p:cSld>
  <p:transition advTm="14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14716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айнворд «Лесен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1052280"/>
            <a:ext cx="4316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гадай слова и впиши их в указанном стрелками направлении. Последняя буква первого слова является одновременно первой буквой второго слова и т. д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Рыба, живущая у д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Месяц весны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Лекарство для смазывания царапин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Вьётся из трубы, когда топят печь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Им пишут на доск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апа лися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Его заметают на сово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о, чем бодается коров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Он загорается, когда к плите подносят спи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511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Чайнворд Лесенка"/>
          <p:cNvPicPr/>
          <p:nvPr/>
        </p:nvPicPr>
        <p:blipFill>
          <a:blip r:embed="rId2"/>
          <a:stretch/>
        </p:blipFill>
        <p:spPr>
          <a:xfrm>
            <a:off x="4284720" y="2060640"/>
            <a:ext cx="4583160" cy="33336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вуко-буквенный анали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и волнистую линию так, чтобы гласные остались сверху, а согласные —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рисунок звуко-буквенный анализ"/>
          <p:cNvPicPr/>
          <p:nvPr/>
        </p:nvPicPr>
        <p:blipFill>
          <a:blip r:embed="rId1"/>
          <a:stretch/>
        </p:blipFill>
        <p:spPr>
          <a:xfrm>
            <a:off x="395280" y="2852640"/>
            <a:ext cx="8064360" cy="3283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о-буквенный синтез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бук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и выпиши все большие буквы и составь слово, найди и выпиши все маленькие буквы и составь сл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все большие белые буквы, все большие чёрные буквы, все маленькие белые, все маленькие чёрные и составь из них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Найди и выпиши все большие буквы"/>
          <p:cNvPicPr/>
          <p:nvPr/>
        </p:nvPicPr>
        <p:blipFill>
          <a:blip r:embed="rId1"/>
          <a:stretch/>
        </p:blipFill>
        <p:spPr>
          <a:xfrm>
            <a:off x="684360" y="3213000"/>
            <a:ext cx="7740360" cy="31114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логовое дом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б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ждом кубике — буквы одного слова, на каждой грани кубика — одна буква. Напиши в клетках внизу те буквы, которые не ви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На каждом кубике — буквы одного слова"/>
          <p:cNvPicPr/>
          <p:nvPr/>
        </p:nvPicPr>
        <p:blipFill>
          <a:blip r:embed="rId1"/>
          <a:stretch/>
        </p:blipFill>
        <p:spPr>
          <a:xfrm>
            <a:off x="1258920" y="2708280"/>
            <a:ext cx="6467400" cy="376236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гры с букв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квы-сестр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и все одинаковые буквы. О — обведи в кружок, У — в квадрат, И — подчерк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дела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можно сделать из этих заготов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О — обведи в кружок"/>
          <p:cNvPicPr/>
          <p:nvPr/>
        </p:nvPicPr>
        <p:blipFill>
          <a:blip r:embed="rId1"/>
          <a:stretch/>
        </p:blipFill>
        <p:spPr>
          <a:xfrm>
            <a:off x="684360" y="2565360"/>
            <a:ext cx="4819680" cy="466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Сделай буквы"/>
          <p:cNvPicPr/>
          <p:nvPr/>
        </p:nvPicPr>
        <p:blipFill>
          <a:blip r:embed="rId2"/>
          <a:stretch/>
        </p:blipFill>
        <p:spPr>
          <a:xfrm>
            <a:off x="755640" y="4365720"/>
            <a:ext cx="5810400" cy="18381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17:31Z</dcterms:created>
  <dc:creator>студент</dc:creator>
  <dc:description/>
  <dc:language>en-US</dc:language>
  <cp:lastModifiedBy>студент</cp:lastModifiedBy>
  <dcterms:modified xsi:type="dcterms:W3CDTF">2012-04-17T07:13:56Z</dcterms:modified>
  <cp:revision>3</cp:revision>
  <dc:subject/>
  <dc:title>Логопедические</dc:title>
</cp:coreProperties>
</file>